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3C3-25A9-4BCB-84A4-6C921CB6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FEB-0408-4AA3-8B23-DFC072C6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03B-BF7B-4BBE-A310-BFFDD635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FE5-2912-45F0-95D3-E3E3B3AC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0940-5A9F-4AF2-9B89-F1E5B082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06B3-3FF5-400A-8FD7-EBFFA1C3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70CD-D010-450E-841D-E643FAD3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A149-0544-4FA7-90D8-93D975AA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1DBA-76E4-4929-A537-A0494545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63F4-1B22-41BB-B153-C8BBB7C9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91B2-F298-4C41-8019-0E9C0D09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A3D-28FF-4037-8450-A2D5690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6EDE-393D-4063-8E2C-E98722BC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3976-DCF0-4E7F-BD5E-1805B4A2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3822-5C60-4071-BA3A-48BFCCF0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7796-FB12-4FCC-882A-F997CCC7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399B-C0AC-4DB5-89DB-CADDC555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7E6-EE66-40FB-8828-CE5F4591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940-5422-4E63-A9AC-4BA12F6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06C-946E-4D28-901F-C54BCAED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6DF-2D9F-49DE-9950-04D821D1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156-1209-4CB8-8C20-471B7DB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301-8CBC-447F-B75A-A5C37DC4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FBB-B0A7-487E-B08A-8B4926BC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7A51-AC3A-41F5-8868-D2B2A9FA0D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49CA-1050-4A89-8260-1898BED2B2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39160" y="2653560"/>
            <a:ext cx="65800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f Mice and 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306864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John Steinbe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Lying is never acceptabl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nt their a lot of quoted passages in youre short story cha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tudents have sold many newspaper subscriptions the computer doesnt cost them to mu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ourney: destination::_______:finish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ight:train::cargo::_____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nk about the following statements. Write whether you agree or disagree with them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y are all things that appear in our new nove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Having friends fulfills our basic human need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eople who are strong know their strength, and how much they can hurt other people if they wanted to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It is unnatural for people to have an attachment to, or feelings for, an animal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The purpose of life is to strive for, and eventually reach, our goals and dream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Killing another human being is intolerable, and should be punished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Running away from a crime is never acceptable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0:12:24Z</dcterms:created>
  <dc:creator>student</dc:creator>
  <dc:description/>
  <dc:language>en-US</dc:language>
  <cp:lastModifiedBy>Angie McCall</cp:lastModifiedBy>
  <dcterms:modified xsi:type="dcterms:W3CDTF">2011-10-21T16:57:53Z</dcterms:modified>
  <cp:revision>3</cp:revision>
  <dc:subject/>
  <dc:title>Of Mice and Men</dc:title>
</cp:coreProperties>
</file>